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4B4-A3F8-4DFD-BCBB-8C3110A2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69D-EC8D-4CBE-97E8-871813E1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72E-447A-4581-8FAE-359366F1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C16-9588-4B34-89D1-A50ED8CD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ACC-6D70-45D7-B88C-1E1AC73B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9CD-A3BD-4404-8E8C-151ABD16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029-211A-4805-BE4B-4B85AA96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803-C124-4EC2-90C9-C4C8ED92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C76-0A82-4B84-96F0-B3E59F2C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C04-D3E9-47A0-9C2A-FADD3B3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E09-F6C4-4BA5-8924-ADE4DE94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484-28CE-459E-83AF-00F2AEE8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EDE8-C9EF-4BA9-9684-A635D7436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50states.com/Massachusetts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hyperlink" Target="http://bensguide.gpo.gov/3-5/state/massachusetts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71102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380880"/>
            <a:ext cx="71625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400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assachusetts</a:t>
            </a:r>
            <a:endParaRPr b="0" lang="en-US" sz="1800" spc="1" strike="noStrike">
              <a:ln w="5400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4876920"/>
            <a:ext cx="2362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Jac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eriod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omputer #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1903320" cy="1832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65451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438000">
            <a:off x="4055760" y="48780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Mayflower is beauti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4952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257800"/>
            <a:ext cx="18288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ssachusetts So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10/7/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50states.com/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ate Name: Mas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apitol: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opulation: 6,398,7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ntered the Union: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 May 16,17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otto: Ense petit placidam sub Liberate quietem (By the sword we seek peace, but peace only under Liber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Nickname: Bay state/ Old Colony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lower: May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ird: Black-Capped Chickad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1784520" cy="1447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086600" y="13716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60948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Massachusetts state flo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28600"/>
            <a:ext cx="87631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ong: Hail Mas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eaning Behind Name: Named after local Indian tribe whose name means “a large hill pla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nteresting Facts: Border States are</a:t>
            </a:r>
            <a:r>
              <a:rPr b="1" lang="en-US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nnecticut, New Hampshire, New York, Rhode Island, Vermont. Largest Cities are Boston, Worcester, Springfield, Lowell, New Bedfor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95760" y="4572000"/>
            <a:ext cx="184140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29200" y="65451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Massachusetts: Map and State Flag"/>
          <p:cNvPicPr/>
          <p:nvPr/>
        </p:nvPicPr>
        <p:blipFill>
          <a:blip r:embed="rId1"/>
          <a:srcRect l="0" t="0" r="0" b="50548"/>
          <a:stretch/>
        </p:blipFill>
        <p:spPr>
          <a:xfrm>
            <a:off x="4724280" y="380880"/>
            <a:ext cx="386712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Massachusetts: Map and State Flag"/>
          <p:cNvPicPr/>
          <p:nvPr/>
        </p:nvPicPr>
        <p:blipFill>
          <a:blip r:embed="rId2"/>
          <a:srcRect l="0" t="45179" r="0" b="0"/>
          <a:stretch/>
        </p:blipFill>
        <p:spPr>
          <a:xfrm>
            <a:off x="228600" y="1143000"/>
            <a:ext cx="42480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21036600">
            <a:off x="517680" y="2209680"/>
            <a:ext cx="22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Broadway"/>
              </a:rPr>
              <a:t>Massachuset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876920"/>
            <a:ext cx="81532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Quick facts Massachusetts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, September 22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Kristen ITC"/>
                <a:hlinkClick r:id="rId3"/>
              </a:rPr>
              <a:t>http://bensguide.gpo.gov/3-5/state/massachuset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838080" y="762120"/>
            <a:ext cx="7162920" cy="472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28800" y="5486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his is a picture of the Salem Witch Museum in Massachuset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0"/>
            <a:ext cx="70102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Salem, Ma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, September 23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Kristen ITC"/>
                <a:hlinkClick r:id="rId2"/>
              </a:rPr>
              <a:t>http://www.postcardsfrom.com/t1/9711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17:06Z</dcterms:created>
  <dc:creator>install</dc:creator>
  <dc:description/>
  <dc:language>en-US</dc:language>
  <cp:lastModifiedBy>install</cp:lastModifiedBy>
  <dcterms:modified xsi:type="dcterms:W3CDTF">2010-10-14T13:19:45Z</dcterms:modified>
  <cp:revision>11</cp:revision>
  <dc:subject/>
  <dc:title>Slide 1</dc:title>
</cp:coreProperties>
</file>